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DF5-EAE2-4508-9173-50705046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6CA-EC3D-4FC0-8557-94B882D5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C64-2804-4FD1-8571-9B754A48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01C-1E96-4BBE-9A57-DFCDDAA2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CFF-02F7-4174-9CDB-24844586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D49-633C-4F6B-9B24-9C96C1BA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BA1-6D80-484E-B91A-A387719B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ACF-D7B6-4D7C-ADD2-ABB9C8EB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171-AADE-48B7-B319-C8F714C3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B7D-A3B9-4F2A-88A5-C415C4CB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329-0454-4A0E-9260-0AB52DA0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9B7-2CEE-43B2-BF75-E9BDB9AD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8B46-A3DB-4182-B219-91BAE2BFD37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10360" y="1916280"/>
            <a:ext cx="0" cy="424944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57120" y="1906560"/>
            <a:ext cx="0" cy="424980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54673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543096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23:57:58Z</dcterms:created>
  <dc:creator>KimsangX</dc:creator>
  <dc:description/>
  <dc:language>en-US</dc:language>
  <cp:lastModifiedBy>KimsangX</cp:lastModifiedBy>
  <dcterms:modified xsi:type="dcterms:W3CDTF">2006-08-15T10:51:32Z</dcterms:modified>
  <cp:revision>14</cp:revision>
  <dc:subject/>
  <dc:title>슬라이드 1</dc:title>
</cp:coreProperties>
</file>